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move the slide</a:t>
            </a:r>
            <a:endParaRPr b="0" lang="en-US" sz="4800" spc="-1" strike="noStrike">
              <a:solidFill>
                <a:srgbClr val="ccecff"/>
              </a:solidFill>
              <a:latin typeface="Arial"/>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D3243-86F5-4DF4-9502-7D416BCCD3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ndangered Species act recognizes artificial propagation as one conservation measure that may be utilized to aid recovery of listed spec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has been used for a number of avian and mammalian species such as California condors, peregrine falcons and blackfooted ferrets with variable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e propagation for recovery of anadromous salmonids that are listed under the ESA is a fairly new development.  Several captive rearing projects were started in the Pacific northwest in the mid-1990s as emergency rescue measures for salmon populations that had declined to critic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though all of us biological types knew exactly what we were doing and where our priorities lay, it was not clear to the policy and funding level decision-makers that there was a logical decision process or scientific basis for the new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mand for standards to judge captive propagation projects and set funding priorities led the Hatcheries and inland fisheries Branch(who are engaged in ESA permits for these activities) and the NW Fisheries Science Center (who are engaged in developing and implementing projects) to develop these standards.</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fter reviewing the decision standards outlined above, the managers conclude that captive propagation is the appropriate strategy for recovery, we apply operational standards to shape the design of project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oodstock selection and Spawning protocols should generally be designed to operate the captive population as an “ideal” population including:  balanced sex ratios, equal opportunity for every fish to contribute, equal family size, enough individuals to represent the full spectrum of genetic material, and random mating,  (Kapuscinski and Jacobson 1987).</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 fish health and fish culture guidelines such as the AFS or IHOT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for fish to match wild fish in behavior and survival characteristics natural rearing systems are advi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fish to be reared long-term in captivity, facilities and protocols need to provide safety and avoid catastrophic loss in the culture facilities as well as fish health and consideration of the goals for these fish.</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lease strategy is a pivotal element in a recovery attempt based on captive rearing.  Release timing should be based on the behavior of any remaining natural fish or on knowledge of the life history characteristics of the stock when it was in the wi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ring and release protocols should be designed with the goal of returning a successful fish to the natural ecosyste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program is successful in returning adults to spawn naturally a plan to reduce hatchery intervention should be in place.  Marking program fish to assist in evaluation is also important for eliminating outside influenc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likely that the program may produce more gametes or fish than are necessary at some stage. The fish and gametes will be listed, probably endangered, and there may be legal and social reasons not to lethally dispose of excess.  In developing plans and permits, off-ramps for contingecies like excess eggs or fry or higher-than predicted adult returns should be in plac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inimums . . .  M&amp;E is essential to guide decisions about the project and also to answer the uncertainties in the benefit;risk analysi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A Fisheries has developed and promoted the use of HGMPs to clearly describe artificial propagation programs.  Applied to Captive propagation projects, the HGMP displays how the decision standards and operating guidelines are employ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flash-back to one of the first slides, the benefit:risk analysis is used to display that the benefits of intervention are greater than the risks of either intervening or not interve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risk of doing something greater than the risk of doing nothing?</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d two purposes in mind as we developed these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to display the decision process that would lead to proposing a captive propagation project and establish scientific standards, to help with prioritizing and funding decisions and to help project proponents understand the basis on which their projects might be judged,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to provide a framework for the systematic development and evaluation of captive propagation measures to deal with the uncertainties and risks that are inherent in artificial intervention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generalities can be applied early in the captive propagation decision pro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ll alternatives should be considered before selecting captive propagation, and proponents of captive projects should understand that it is an emergency meas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can help increase the number of a listed species, but cannot alone lead to recove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use of any artificial propagation program has uncertainties as far as establishing long-term, self-sustaining natural popul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captive propagation may be a temporary fix to the short term issue of preventing extinction, but the other factors that initially led to the decline of the population must also be addressed for recovery to occur.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level of screening criteria are related to defining the status and importance of the population, the scale and duration of the project, and performance standards to measure the success or failure of the project in meeting clearly established goal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assumed that the population has been identified and described and meets the standard definition of “ a group of fish that is substantially reproductively separated other fish of the same species that spawn at some other site or the same site at some other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ually biological uniqueness is the most important criteria for valuing a population, but some program sponsors may also be seeking recovery for high or unique economic, social or cultural value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ize and duration of proposed interventions is consider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ting goals and establishing performance indicators to determine how successful the program is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ject proponents should establish the trigger points for terminating or changing the captive propagation program before it is actually placed in operation</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25DDB-E293-4DBD-B134-FB3071C603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9C840C-14D9-437D-804C-A130E08E14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C77F4-CD34-4E4D-8673-66A17CF4B5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61F9BC-ED1C-4E9C-8B97-DB58DBC7E2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62C5BE-A083-4645-9A6B-2414A07E82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8E022-16F4-442D-AFA2-883698D792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022831-2E53-439F-9363-C54579A719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19FDFE-E00F-413F-8836-98770D47BB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473393-8800-4EEE-BCF3-7B7BFA0922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9EE55F-A4D6-4DA5-B6B9-B3091970C2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3786CA-631A-40E2-AE91-C2C893F1FC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BF458-4D3E-4184-AA2E-C6ABF9E034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6754E4-4781-4C50-8D0D-F2FEB92DE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C05C74-E641-4600-B5E5-9D2D198A81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3F0ED-6870-46B7-9AF9-A22133643C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8AE607-2842-4980-B4C5-F0AED3F926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6CCF21-62C6-4F25-806A-E47CA0F070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C3E886-16E9-4555-B2DD-3E411FEA20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657D5-D01B-4BEE-BEF1-A08278615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1CDF6-7E5F-4F92-8A6C-3A25C3CF1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1D2FF-6EF7-444F-AAB7-A38BA08C9D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5103D-06EE-43B0-8EBF-CD846BE66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10983-C973-409D-AF99-112CAEC28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8AA62E-1AB8-4D2E-902C-D2095909AD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5481-C855-448F-BE14-44E6B7032D2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3f4873"/>
                </a:gs>
                <a:gs pos="100000">
                  <a:srgbClr val="272d4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3f4873"/>
                </a:gs>
                <a:gs pos="100000">
                  <a:srgbClr val="2f365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4f598d"/>
                </a:gs>
                <a:gs pos="100000">
                  <a:srgbClr val="404873"/>
                </a:gs>
              </a:gsLst>
              <a:lin ang="108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545d90"/>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4f598d"/>
                </a:gs>
                <a:gs pos="100000">
                  <a:srgbClr val="2a304c"/>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4f598d"/>
                </a:gs>
                <a:gs pos="100000">
                  <a:srgbClr val="3f487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3f4873"/>
                </a:gs>
                <a:gs pos="100000">
                  <a:srgbClr val="292f4c"/>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4f598d"/>
                </a:gs>
                <a:gs pos="100000">
                  <a:srgbClr val="363d62"/>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596293"/>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4f598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4f598d"/>
                </a:gs>
                <a:gs pos="100000">
                  <a:srgbClr val="24294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4f598d"/>
                </a:gs>
                <a:gs pos="100000">
                  <a:srgbClr val="282d4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5e6796"/>
                </a:gs>
                <a:gs pos="100000">
                  <a:srgbClr val="4f598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292f4c"/>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2b324f"/>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3f4873"/>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4f598d"/>
                </a:gs>
                <a:gs pos="100000">
                  <a:srgbClr val="31385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4f598d"/>
                </a:gs>
                <a:gs pos="100000">
                  <a:srgbClr val="2f355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4f598d"/>
                </a:gs>
                <a:gs pos="100000">
                  <a:srgbClr val="424b7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4f598d"/>
                </a:gs>
                <a:gs pos="100000">
                  <a:srgbClr val="262b4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4f598d"/>
                </a:gs>
                <a:gs pos="100000">
                  <a:srgbClr val="424b7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31385a"/>
                </a:gs>
                <a:gs pos="100000">
                  <a:srgbClr val="3f487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4f598d"/>
                </a:gs>
                <a:gs pos="100000">
                  <a:srgbClr val="2d335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4f598d"/>
                </a:gs>
                <a:gs pos="100000">
                  <a:srgbClr val="39406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4f598d"/>
                </a:gs>
                <a:gs pos="100000">
                  <a:srgbClr val="3e456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4f598d"/>
                  </a:gs>
                  <a:gs pos="100000">
                    <a:srgbClr val="39406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5e6796"/>
                  </a:gs>
                  <a:gs pos="100000">
                    <a:srgbClr val="4f598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Click to edit the title text format</a:t>
            </a:r>
            <a:endParaRPr b="0" lang="en-US" sz="4800" spc="-1" strike="noStrike">
              <a:solidFill>
                <a:srgbClr val="ccec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47B32-8F07-4AC6-B9E4-CD250CF28B3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outline text format</a:t>
            </a:r>
            <a:endParaRPr b="0" lang="en-US" sz="36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4c847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6a4c8"/>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3.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533520"/>
            <a:ext cx="777240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cecff"/>
                </a:solidFill>
                <a:latin typeface="Arial"/>
              </a:rPr>
              <a:t>Guidelines for Use of Captive Broodstocks in Recovery Efforts for Pacific Salmon</a:t>
            </a:r>
            <a:endParaRPr b="0" lang="en-US" sz="4800" spc="-1" strike="noStrike">
              <a:solidFill>
                <a:srgbClr val="ccecff"/>
              </a:solidFill>
              <a:latin typeface="Arial"/>
            </a:endParaRPr>
          </a:p>
        </p:txBody>
      </p:sp>
      <p:sp>
        <p:nvSpPr>
          <p:cNvPr id="170" name="PlaceHolder 2"/>
          <p:cNvSpPr>
            <a:spLocks noGrp="1"/>
          </p:cNvSpPr>
          <p:nvPr>
            <p:ph type="subTitle"/>
          </p:nvPr>
        </p:nvSpPr>
        <p:spPr>
          <a:xfrm>
            <a:off x="456840" y="3657600"/>
            <a:ext cx="80010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erb Pollard, NOAA fisheries NW Region, Hatcheries and Inland Fisheries Branch</a:t>
            </a:r>
            <a:endParaRPr b="0" lang="en-US" sz="2800" spc="-1" strike="noStrike">
              <a:solidFill>
                <a:srgbClr val="ffffff"/>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omas Flagg, NW Fisheries Science Center Manchester Marine Laboratory</a:t>
            </a:r>
            <a:endParaRPr b="0" lang="en-US" sz="2800" spc="-1" strike="noStrike">
              <a:solidFill>
                <a:srgbClr val="ffffff"/>
              </a:solidFill>
              <a:latin typeface="Arial"/>
            </a:endParaRPr>
          </a:p>
        </p:txBody>
      </p:sp>
      <p:sp>
        <p:nvSpPr>
          <p:cNvPr id="171" name=""/>
          <p:cNvSpPr/>
          <p:nvPr/>
        </p:nvSpPr>
        <p:spPr>
          <a:xfrm>
            <a:off x="533520" y="6019920"/>
            <a:ext cx="86104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72" name="" descr=""/>
          <p:cNvPicPr/>
          <p:nvPr/>
        </p:nvPicPr>
        <p:blipFill>
          <a:blip r:embed="rId1"/>
          <a:stretch/>
        </p:blipFill>
        <p:spPr>
          <a:xfrm>
            <a:off x="0" y="5384880"/>
            <a:ext cx="8877240" cy="1473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for Captive Propagation Projects</a:t>
            </a:r>
            <a:endParaRPr b="0" lang="en-US" sz="4000" spc="-1" strike="noStrike">
              <a:solidFill>
                <a:srgbClr val="ccecff"/>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rood stock collec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ing protocol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aring protocol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lease of juvenile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agement of returning adults</a:t>
            </a:r>
            <a:endParaRPr b="0" lang="en-US" sz="3200" spc="-1" strike="noStrike">
              <a:solidFill>
                <a:srgbClr val="ffffff"/>
              </a:solidFill>
              <a:latin typeface="Arial"/>
            </a:endParaRPr>
          </a:p>
          <a:p>
            <a:pPr marL="343080" indent="-34308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ther disposition of fish</a:t>
            </a:r>
            <a:endParaRPr b="0" lang="en-US" sz="3200" spc="-1" strike="noStrike">
              <a:solidFill>
                <a:srgbClr val="ffffff"/>
              </a:solidFill>
              <a:latin typeface="Arial"/>
            </a:endParaRPr>
          </a:p>
          <a:p>
            <a:pPr marL="343080" indent="-343080">
              <a:spcBef>
                <a:spcPts val="799"/>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nitoring and Evalu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Brood Stock Collection</a:t>
            </a:r>
            <a:endParaRPr b="0" lang="en-US" sz="40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ke all remaining individuals of wild population into brood stock, or</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a broodstock selection protocol to ensure that all life history and genetic variability is represented.</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ntinual infusion of wild fish into successive year classes to avoid domestication and artificial selec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 </a:t>
            </a:r>
            <a:br>
              <a:rPr sz="4000"/>
            </a:br>
            <a:r>
              <a:rPr b="0" lang="en-US" sz="4000" spc="-1" strike="noStrike">
                <a:solidFill>
                  <a:srgbClr val="ccecff"/>
                </a:solidFill>
                <a:latin typeface="Arial"/>
              </a:rPr>
              <a:t>Spawning Protocols</a:t>
            </a:r>
            <a:endParaRPr b="0" lang="en-US" sz="4000" spc="-1" strike="noStrike">
              <a:solidFill>
                <a:srgbClr val="ccecff"/>
              </a:solidFill>
              <a:latin typeface="Arial"/>
            </a:endParaRPr>
          </a:p>
        </p:txBody>
      </p:sp>
      <p:sp>
        <p:nvSpPr>
          <p:cNvPr id="1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awn all available adult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trieve all possible eggs from mature female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spawning protocols to maximize effective population size</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torial or single pair matings</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yopreserved sperm</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uced spawning</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aring Protocols</a:t>
            </a:r>
            <a:endParaRPr b="0" lang="en-US" sz="4000" spc="-1" strike="noStrike">
              <a:solidFill>
                <a:srgbClr val="ccecff"/>
              </a:solidFill>
              <a:latin typeface="Arial"/>
            </a:endParaRPr>
          </a:p>
        </p:txBody>
      </p:sp>
      <p:sp>
        <p:nvSpPr>
          <p:cNvPr id="1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prudent fish culture practices</a:t>
            </a:r>
            <a:endParaRPr b="0" lang="en-US" sz="2800" spc="-1" strike="noStrike">
              <a:solidFill>
                <a:srgbClr val="ffffff"/>
              </a:solidFill>
              <a:latin typeface="Arial"/>
            </a:endParaRPr>
          </a:p>
          <a:p>
            <a:pPr marL="339480" indent="-3394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mic wild rearing conditions for fish to be released into the wild</a:t>
            </a:r>
            <a:endParaRPr b="0" lang="en-US" sz="2800" spc="-1" strike="noStrike">
              <a:solidFill>
                <a:srgbClr val="ffffff"/>
              </a:solidFill>
              <a:latin typeface="Arial"/>
            </a:endParaRPr>
          </a:p>
          <a:p>
            <a:pPr marL="339480" indent="-339480">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 fish to be reared to maturity in captivity</a:t>
            </a:r>
            <a:endParaRPr b="0" lang="en-US" sz="28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vide fish among two or more facilit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thogen and predator-free water supplie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r smolts to be adaptable for seawater rearing</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tect seawater facilities from catastrophic loss</a:t>
            </a:r>
            <a:endParaRPr b="0" lang="en-US" sz="2400" spc="-1" strike="noStrike">
              <a:solidFill>
                <a:srgbClr val="ffffff"/>
              </a:solidFill>
              <a:latin typeface="Arial"/>
            </a:endParaRPr>
          </a:p>
          <a:p>
            <a:pPr lvl="1" marL="735480" indent="-282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qualize contribution of all parents to the next generation</a:t>
            </a:r>
            <a:endParaRPr b="0" lang="en-US" sz="2400" spc="-1" strike="noStrike">
              <a:solidFill>
                <a:srgbClr val="ffffff"/>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Release Protocol</a:t>
            </a:r>
            <a:endParaRPr b="0" lang="en-US" sz="4000" spc="-1" strike="noStrike">
              <a:solidFill>
                <a:srgbClr val="ccecff"/>
              </a:solidFill>
              <a:latin typeface="Arial"/>
            </a:endParaRPr>
          </a:p>
        </p:txBody>
      </p:sp>
      <p:sp>
        <p:nvSpPr>
          <p:cNvPr id="1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lease fish at a life stage where probability of survival is greatest</a:t>
            </a:r>
            <a:endParaRPr b="0" lang="en-US" sz="28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cclimate fish to locations where they are intended to return</a:t>
            </a:r>
            <a:endParaRPr b="0" lang="en-US" sz="2800" spc="-1" strike="noStrike">
              <a:solidFill>
                <a:srgbClr val="ffffff"/>
              </a:solidFill>
              <a:latin typeface="Arial"/>
            </a:endParaRPr>
          </a:p>
          <a:p>
            <a:pPr marL="343080" indent="-343080">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grate releases with wild fish at same life stage or maturity</a:t>
            </a:r>
            <a:endParaRPr b="0" lang="en-US" sz="2800" spc="-1" strike="noStrike">
              <a:solidFill>
                <a:srgbClr val="ffffff"/>
              </a:solidFill>
              <a:latin typeface="Arial"/>
            </a:endParaRPr>
          </a:p>
          <a:p>
            <a:pPr marL="343080" indent="-343080">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isperse releases</a:t>
            </a:r>
            <a:endParaRPr b="0" lang="en-US" sz="2800" spc="-1" strike="noStrike">
              <a:solidFill>
                <a:srgbClr val="ffffff"/>
              </a:solidFill>
              <a:latin typeface="Arial"/>
            </a:endParaRPr>
          </a:p>
          <a:p>
            <a:pPr marL="343080" indent="-343080">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stress caused by handling</a:t>
            </a:r>
            <a:endParaRPr b="0" lang="en-US" sz="2800" spc="-1" strike="noStrike">
              <a:solidFill>
                <a:srgbClr val="ffffff"/>
              </a:solidFill>
              <a:latin typeface="Arial"/>
            </a:endParaRPr>
          </a:p>
          <a:p>
            <a:pPr marL="343080" indent="-343080">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negative interactions with other spec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anagement of Returning Adults</a:t>
            </a:r>
            <a:endParaRPr b="0" lang="en-US" sz="4000" spc="-1" strike="noStrike">
              <a:solidFill>
                <a:srgbClr val="ccecff"/>
              </a:solidFill>
              <a:latin typeface="Arial"/>
            </a:endParaRPr>
          </a:p>
        </p:txBody>
      </p:sp>
      <p:sp>
        <p:nvSpPr>
          <p:cNvPr id="2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the program meets all other criteria, there would be no general restriction on the proportion of hatchery-origin fish on the spawning grounds for the first three genera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ESU hatchery fish should not exceed natural straying levels or 1% if natural straying levels are unknow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Other Disposition of Fish</a:t>
            </a:r>
            <a:endParaRPr b="0" lang="en-US" sz="40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captive propagation programs produce more fish than are needed for future broodstock or release, the extra fish will be disposed of in a manner that is agreeable to co-managers and consistent with permit restrictio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evelop biologically sound and socially acceptable off ramps in advan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Operational Standards:</a:t>
            </a:r>
            <a:br>
              <a:rPr sz="4000"/>
            </a:br>
            <a:r>
              <a:rPr b="0" lang="en-US" sz="4000" spc="-1" strike="noStrike">
                <a:solidFill>
                  <a:srgbClr val="ccecff"/>
                </a:solidFill>
                <a:latin typeface="Arial"/>
              </a:rPr>
              <a:t>Monitoring and Evaluation</a:t>
            </a:r>
            <a:endParaRPr b="0" lang="en-US" sz="40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in captive propagation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t life history stages to adulthood</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iability of gametes produced in captivity</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havior, morphology and reproductive success</a:t>
            </a:r>
            <a:endParaRPr b="0" lang="en-US" sz="2400" spc="-1" strike="noStrike">
              <a:solidFill>
                <a:srgbClr val="ffffff"/>
              </a:solidFill>
              <a:latin typeface="Arial"/>
            </a:endParaRPr>
          </a:p>
          <a:p>
            <a:pPr marL="343080" indent="-343080">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mp;E for fish released to the wild will include:</a:t>
            </a:r>
            <a:endParaRPr b="0" lang="en-US" sz="28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rvival and migration success</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return to natal area</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bility to successfully reprodu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velopment of an Operating Plan</a:t>
            </a:r>
            <a:endParaRPr b="0" lang="en-US" sz="4000" spc="-1" strike="noStrike">
              <a:solidFill>
                <a:srgbClr val="ccecff"/>
              </a:solidFill>
              <a:latin typeface="Arial"/>
            </a:endParaRPr>
          </a:p>
        </p:txBody>
      </p:sp>
      <p:sp>
        <p:nvSpPr>
          <p:cNvPr id="2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Hatchery and Genetic Management Plan” (HGMP) template from NMFS-NWR web site to clearly define:</a:t>
            </a:r>
            <a:endParaRPr b="0" lang="en-US" sz="32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gram scope and goal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arget stocks and watershed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formance standards and indicators for risks and benefit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ffects on listed species and other management objectives</a:t>
            </a:r>
            <a:endParaRPr b="0" lang="en-US" sz="2800" spc="-1" strike="noStrike">
              <a:solidFill>
                <a:srgbClr val="ffffff"/>
              </a:solidFill>
              <a:latin typeface="Arial"/>
            </a:endParaRPr>
          </a:p>
          <a:p>
            <a:pPr lvl="1" marL="735480" indent="-28296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cilities and operating standard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enefit : Risk Analysis</a:t>
            </a:r>
            <a:endParaRPr b="0" lang="en-US" sz="4400" spc="-1" strike="noStrike">
              <a:solidFill>
                <a:srgbClr val="ccecff"/>
              </a:solidFill>
              <a:latin typeface="Arial"/>
            </a:endParaRPr>
          </a:p>
        </p:txBody>
      </p:sp>
      <p:sp>
        <p:nvSpPr>
          <p:cNvPr id="2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nefit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crease abundance of target popula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erve genetic heritage, avoid extinction</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tore listed population to native habitat</a:t>
            </a:r>
            <a:endParaRPr b="0" lang="en-US" sz="2400" spc="-1" strike="noStrike">
              <a:solidFill>
                <a:srgbClr val="ffffff"/>
              </a:solidFill>
              <a:latin typeface="Arial"/>
            </a:endParaRPr>
          </a:p>
          <a:p>
            <a:pPr marL="343080" indent="-343080">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isks:</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tic effects including inbreeding, loss of variability, accumulation of mutation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ultural risks including domestication and catastrophic loss in hatcheries</a:t>
            </a:r>
            <a:endParaRPr b="0" lang="en-US" sz="24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cological risks including predation, competition, disease</a:t>
            </a: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Purpose</a:t>
            </a:r>
            <a:endParaRPr b="0" lang="en-US" sz="5400" spc="-1" strike="noStrike">
              <a:solidFill>
                <a:srgbClr val="ccec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play the decision process and scientific standard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vide a framework for systematic development and evaluation of effective captive propagation measur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761760"/>
            <a:ext cx="8305920" cy="144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ccecff"/>
                </a:solidFill>
                <a:latin typeface="Arial"/>
              </a:rPr>
              <a:t>Thank you…</a:t>
            </a:r>
            <a:br>
              <a:rPr sz="7200"/>
            </a:br>
            <a:endParaRPr b="0" lang="en-US" sz="7200" spc="-1" strike="noStrike">
              <a:solidFill>
                <a:srgbClr val="ccecff"/>
              </a:solidFill>
              <a:latin typeface="Arial"/>
            </a:endParaRPr>
          </a:p>
        </p:txBody>
      </p:sp>
      <p:sp>
        <p:nvSpPr>
          <p:cNvPr id="210" name="PlaceHolder 2"/>
          <p:cNvSpPr>
            <a:spLocks noGrp="1"/>
          </p:cNvSpPr>
          <p:nvPr>
            <p:ph/>
          </p:nvPr>
        </p:nvSpPr>
        <p:spPr>
          <a:xfrm>
            <a:off x="533160" y="2362320"/>
            <a:ext cx="8001000" cy="838080"/>
          </a:xfrm>
          <a:prstGeom prst="rect">
            <a:avLst/>
          </a:prstGeom>
          <a:noFill/>
          <a:ln w="0">
            <a:noFill/>
          </a:ln>
        </p:spPr>
        <p:txBody>
          <a:bodyPr lIns="90000" rIns="90000" tIns="46800" bIns="46800" anchor="t">
            <a:normAutofit/>
          </a:bodyPr>
          <a:p>
            <a:pPr lvl="4" marL="2057400" indent="-228600">
              <a:spcBef>
                <a:spcPts val="1001"/>
              </a:spcBef>
              <a:buSzPct val="100000"/>
              <a:buBlip>
                <a:blip r:embed="rId1"/>
              </a:buBlip>
              <a:tabLst>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ny Questions?</a:t>
            </a:r>
            <a:endParaRPr b="0" lang="en-US" sz="4000" spc="-1" strike="noStrike">
              <a:solidFill>
                <a:srgbClr val="ffffff"/>
              </a:solidFill>
              <a:latin typeface="Arial"/>
            </a:endParaRPr>
          </a:p>
        </p:txBody>
      </p:sp>
      <p:sp>
        <p:nvSpPr>
          <p:cNvPr id="211" name=""/>
          <p:cNvSpPr/>
          <p:nvPr/>
        </p:nvSpPr>
        <p:spPr>
          <a:xfrm>
            <a:off x="1219320" y="3809880"/>
            <a:ext cx="6858000" cy="1608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b Pollard, NOAA fisheries NW Region, Hatcheries and Inland Fisheries Branc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omas Flagg, NW Fisheries Science Center Manchester Marine Laboratory</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
          <p:cNvSpPr/>
          <p:nvPr/>
        </p:nvSpPr>
        <p:spPr>
          <a:xfrm>
            <a:off x="1219320" y="5257800"/>
            <a:ext cx="7543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13" name="" descr=""/>
          <p:cNvPicPr/>
          <p:nvPr/>
        </p:nvPicPr>
        <p:blipFill>
          <a:blip r:embed="rId2"/>
          <a:stretch/>
        </p:blipFill>
        <p:spPr>
          <a:xfrm>
            <a:off x="2514600" y="5486400"/>
            <a:ext cx="4038480" cy="673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aptive propagation is:</a:t>
            </a:r>
            <a:endParaRPr b="0" lang="en-US" sz="4400" spc="-1" strike="noStrike">
              <a:solidFill>
                <a:srgbClr val="ccecff"/>
              </a:solidFill>
              <a:latin typeface="Arial"/>
            </a:endParaRPr>
          </a:p>
        </p:txBody>
      </p:sp>
      <p:sp>
        <p:nvSpPr>
          <p:cNvPr id="176"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ly appropriate if the risk of extinction is greater than the risks of intervention;</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arely, if ever, a complete recovery program;</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proven for long-term rebuilding of naturally spawning popul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n experimental and temporary conservation measure in the context of an overall recovery strateg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Decision Standards</a:t>
            </a:r>
            <a:endParaRPr b="0" lang="en-US" sz="4400" spc="-1" strike="noStrike">
              <a:solidFill>
                <a:srgbClr val="ccec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statu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mportance of population</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cale of Project</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 and Performance standards</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ject dur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Population Status</a:t>
            </a:r>
            <a:endParaRPr b="0" lang="en-US" sz="4000" spc="-1" strike="noStrike">
              <a:solidFill>
                <a:srgbClr val="ccecff"/>
              </a:solidFill>
              <a:latin typeface="Arial"/>
            </a:endParaRPr>
          </a:p>
        </p:txBody>
      </p:sp>
      <p:sp>
        <p:nvSpPr>
          <p:cNvPr id="180" name="PlaceHolder 2"/>
          <p:cNvSpPr>
            <a:spLocks noGrp="1"/>
          </p:cNvSpPr>
          <p:nvPr>
            <p:ph/>
          </p:nvPr>
        </p:nvSpPr>
        <p:spPr>
          <a:xfrm>
            <a:off x="533520" y="1599840"/>
            <a:ext cx="8153280" cy="4530600"/>
          </a:xfrm>
          <a:prstGeom prst="rect">
            <a:avLst/>
          </a:prstGeom>
          <a:noFill/>
          <a:ln w="0">
            <a:noFill/>
          </a:ln>
        </p:spPr>
        <p:txBody>
          <a:bodyPr lIns="90000" rIns="90000" tIns="46800" bIns="46800" anchor="t">
            <a:normAutofit/>
          </a:bodyPr>
          <a:p>
            <a:pPr marL="343080" indent="-34308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at a high risk of extinction:</a:t>
            </a:r>
            <a:endParaRPr b="0" lang="en-US" sz="32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ery low abundance (&lt; 50 fish per year)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ow abundance and declining, or,</a:t>
            </a:r>
            <a:endParaRPr b="0" lang="en-US" sz="2800" spc="-1" strike="noStrike">
              <a:solidFill>
                <a:srgbClr val="ffffff"/>
              </a:solidFill>
              <a:latin typeface="Arial"/>
            </a:endParaRPr>
          </a:p>
          <a:p>
            <a:pPr lvl="1" marL="743040" indent="-28584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ittle or no natural production predicted for at least one generation.</a:t>
            </a:r>
            <a:endParaRPr b="0" lang="en-US" sz="2800" spc="-1" strike="noStrike">
              <a:solidFill>
                <a:srgbClr val="ffffff"/>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pulation is of very low abundance relative to available habitat and short term supplementation is deemed appropriat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Importance of Population</a:t>
            </a:r>
            <a:endParaRPr b="0" lang="en-US" sz="4000" spc="-1" strike="noStrike">
              <a:solidFill>
                <a:srgbClr val="ccecff"/>
              </a:solidFill>
              <a:latin typeface="Arial"/>
            </a:endParaRPr>
          </a:p>
        </p:txBody>
      </p:sp>
      <p:sp>
        <p:nvSpPr>
          <p:cNvPr id="18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genetic qualitie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que adaptations to specific habitats</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ow likelihood of successful natural recolonization in the event of extinction</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gh potential productivity, or unique social, economic or cultural valu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Scale of Project</a:t>
            </a:r>
            <a:endParaRPr b="0" lang="en-US" sz="4000" spc="-1" strike="noStrike">
              <a:solidFill>
                <a:srgbClr val="ccec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ion based on number of fish needed to:</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vent extinction of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present genetic and life history vari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inimize genetic change in captivity</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establish fish in the wild</a:t>
            </a:r>
            <a:endParaRPr b="0" lang="en-US" sz="28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ration should be short (one to three generatio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Measures of Success</a:t>
            </a:r>
            <a:endParaRPr b="0" lang="en-US" sz="4000" spc="-1" strike="noStrike">
              <a:solidFill>
                <a:srgbClr val="ccecff"/>
              </a:solidFill>
              <a:latin typeface="Arial"/>
            </a:endParaRPr>
          </a:p>
        </p:txBody>
      </p:sp>
      <p:sp>
        <p:nvSpPr>
          <p:cNvPr id="18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ccessful programs will</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bstantially reduce risk of extinc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use minimal genetic change from target population</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introduce fish that are phenotypically similar to wild fish</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crease the number of fish reproducing successfully in the wild</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f598d"/>
            </a:gs>
            <a:gs pos="100000">
              <a:srgbClr val="2d3350"/>
            </a:gs>
          </a:gsLst>
          <a:lin ang="135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Decision standards:</a:t>
            </a:r>
            <a:br>
              <a:rPr sz="4000"/>
            </a:br>
            <a:r>
              <a:rPr b="0" lang="en-US" sz="4000" spc="-1" strike="noStrike">
                <a:solidFill>
                  <a:srgbClr val="ccecff"/>
                </a:solidFill>
                <a:latin typeface="Arial"/>
              </a:rPr>
              <a:t>Changing or Terminating the Program</a:t>
            </a:r>
            <a:endParaRPr b="0" lang="en-US" sz="4000" spc="-1" strike="noStrike">
              <a:solidFill>
                <a:srgbClr val="ccecff"/>
              </a:solidFill>
              <a:latin typeface="Arial"/>
            </a:endParaRPr>
          </a:p>
        </p:txBody>
      </p:sp>
      <p:sp>
        <p:nvSpPr>
          <p:cNvPr id="18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isk of immediate extinction lessens</a:t>
            </a:r>
            <a:endParaRPr b="0" lang="en-US" sz="3200" spc="-1" strike="noStrike">
              <a:solidFill>
                <a:srgbClr val="ffffff"/>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hase into reliance on natural spawning</a:t>
            </a:r>
            <a:endParaRPr b="0" lang="en-US" sz="3200" spc="-1" strike="noStrike">
              <a:solidFill>
                <a:srgbClr val="ffffff"/>
              </a:solidFill>
              <a:latin typeface="Arial"/>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success toward recovery in three generations</a:t>
            </a:r>
            <a:endParaRPr b="0" lang="en-US" sz="3200" spc="-1" strike="noStrike">
              <a:solidFill>
                <a:srgbClr val="ffffff"/>
              </a:solidFill>
              <a:latin typeface="Arial"/>
            </a:endParaRPr>
          </a:p>
          <a:p>
            <a:pPr marL="343080" indent="-34308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 progress on correcting factors for decline</a:t>
            </a:r>
            <a:endParaRPr b="0" lang="en-US" sz="3200" spc="-1" strike="noStrike">
              <a:solidFill>
                <a:srgbClr val="ffffff"/>
              </a:solidFill>
              <a:latin typeface="Arial"/>
            </a:endParaRPr>
          </a:p>
          <a:p>
            <a:pPr marL="343080" indent="-34308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gative genetic or phenotypic effects of captive propag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9T16:39:52Z</dcterms:created>
  <dc:creator>pollardh</dc:creator>
  <dc:description/>
  <dc:language>en-US</dc:language>
  <cp:lastModifiedBy>pollardh</cp:lastModifiedBy>
  <dcterms:modified xsi:type="dcterms:W3CDTF">2003-04-11T16:26:33Z</dcterms:modified>
  <cp:revision>7</cp:revision>
  <dc:subject/>
  <dc:title>Guidelines for Use of Captive Broodstocks in Recovery Efforts for Pacific Salmon</dc:title>
</cp:coreProperties>
</file>